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661-8569-4CCF-9A79-F9613A4C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243-6012-4355-9E25-D0A96658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01F-8CA4-43DC-86F2-47E12301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688-AEDE-4000-AD85-9C2D53B2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4CB-91DC-4A1D-BF1B-D92A4680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ABEE-A87B-4827-8211-C5D708E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188F-0DA0-4C27-943F-8AC31826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69A9-1847-40AE-98E9-6072BEA3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9E1D-0126-4CFB-A937-3046B52E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2692-08C3-4080-85D2-A5D1F0DB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7AC0-4E6E-47B0-8183-EE40434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CAC-1AA3-48D8-9EBB-035D051B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18B4-A3F3-4F87-A012-B938C74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C559-11D2-4BFC-A854-15925C7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93BA-D6EA-4A5F-B105-0F15B4E8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2B46-57C3-4E0F-9BA5-A5C973F6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1623-31D1-47C2-B2CC-FFD615D0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D8C6-7323-4D7F-B729-5F267E0B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7C49-51D5-488C-AA66-D308F9F0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3F64-6AE8-4EE7-A997-9CD91D9D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9A47-434E-4612-8051-5FE81FC9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3F83-1A45-4576-9198-B45547CD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852-4909-47C4-A1A7-41E135FD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5214-BF2E-4990-9EF3-E5CAC5ED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040A-4B99-476A-9C9B-F055FFC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1D59-9706-4619-A15B-89EB908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A9FE-0AD0-4BEB-AD17-3C2B406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0AB6-9DD3-4DA9-9FA6-E4366229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9ABA-77E0-4B9E-A90D-B356AE07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975C-3794-48F9-8CD0-E3CF4524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40FBF-D3A0-4ECB-BF07-49A15A62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339F-DB5C-4F8C-9FF5-5A45A13F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8860-AEDA-4813-A50C-28C8E77B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5D6-9135-4CBF-805E-C723FB04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B78E-38B0-43E0-8E7B-4F2D84FE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E6A0-B637-416A-AA3A-65C6AFC3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4EFCC-AAF2-441E-A00B-EA26A975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3EDA-6488-4810-99D7-FEB6E837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2CFF-9598-4ADA-AD25-5099F44C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B7B73-1D36-49AC-B760-96ECFC2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15DC-4BF6-4EFF-B6B6-88D4BD1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BF82-B549-4733-92B4-381E8AFF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4454-9AE9-4074-A2D0-3558107D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B7909-693E-4954-BD31-C851C5EE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AD2-7033-47D0-8001-087934A8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A822A-FC81-470C-B257-6F4151A9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9EEC-B3F7-44DA-92E9-16E70BB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5F36-3DCB-4E9D-9C73-0530474E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3DAC9-BD88-4452-9A70-7F345941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45B3A-7446-403D-963B-BB875FEF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EA85B-1DDF-49D4-A18E-51F279A8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E11F-5113-425E-9F59-34E155F8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A087-18A6-4C24-A666-C0D4727A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D9B2-9FC8-4486-88A7-3619B79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C9C6-2022-4D0E-8E34-097CD4C2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440-8E30-43B7-A7C6-1107235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8E011-238B-4E34-8D59-68CD4E55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439F2-9EBF-4292-9444-E443C701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0B36-4E5F-4448-9ACC-7BD4F47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AB09-D47E-43D4-91E5-FB9F2033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274F9-44ED-4BFF-896D-92FCEAC5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5653-0216-4314-8519-C911B230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E8069-6130-4DF9-9893-17FC78F6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B7E3E-5B2E-4493-B2E1-77D78C73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2A4FC-4295-4249-B2D4-ED98972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85044-A20E-4FBF-9C14-3535B1A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FE1-F460-4E1C-8AB2-32AEA75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E54D-C1AD-4717-9B11-C89FA5C0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30603-FDF1-431E-A488-5A099C95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9901-E5E3-4F35-A277-2E87298A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786-62F0-414D-8474-CF965C65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C78-2326-4421-82DC-051B39B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6187-A350-45A3-984B-E352BEC5E3B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595-BF77-46B8-AB73-3748D3B06E5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95C2-7ABF-4A99-B290-E9FE481E31F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90F7-2E80-41C5-92BE-51DA343A860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5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F018-2F85-4C2A-A898-EE1432F04EB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9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432A-572E-4560-8CEE-02371D62FC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5800" y="5334120"/>
            <a:ext cx="472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 rot="5400000">
            <a:off x="3177360" y="1358640"/>
            <a:ext cx="7620120" cy="24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                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性格决定命运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0"/>
              </a:gra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        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习惯决定性格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0"/>
              </a:gra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行为决定习惯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0"/>
              </a:gra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264360" cy="43768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 rot="5400000">
            <a:off x="-1124640" y="2716920"/>
            <a:ext cx="352764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481800" cy="5050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 rot="5400000">
            <a:off x="-693000" y="2645280"/>
            <a:ext cx="352728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9000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联系实际列举我们生活中一些不文明的例子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60360" y="549360"/>
            <a:ext cx="3816360" cy="107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都来说两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277040" y="4363920"/>
            <a:ext cx="1866960" cy="2494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518200" y="117324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乱抛垃圾倒污水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07640" y="1700280"/>
            <a:ext cx="487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有的人将生活垃圾和污水不按照规定的地点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进行处理，随便乱扔乱倒；有的人从自家的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或窗户直接将垃圾抛到楼下；有的人从汽车内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皮、纸屑、烟头等扔到车外；还有的人外出游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用过的东西随手乱扔。这些现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增加了环卫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人的劳动量，给路人带来了危险，同时也会破坏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围的环境，对河流、土壤等都造成严重污染；长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堆积的垃圾和存留的污水还会腐烂变臭，使其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致病菌孳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55640" y="189000"/>
            <a:ext cx="5121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最令人深恶痛绝的生活陋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174040" y="116856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随地吐痰擤鼻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30560" y="1773360"/>
            <a:ext cx="4874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生活中经常可以看到一些人走在大街上或在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，一声咳嗽后一口浓痰飞射而出，随后用鞋一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事；一些人在公共场所毫无顾忌地用手指挖鼻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擤鼻涕，甚至将污物到处乱抹，用刚挖过鼻孔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他人接触或直接拿东西。痰和鼻涕是呼吸道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泌物，研究表明，一口痰中会“驻扎”着成千上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菌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患传染性非典型肺炎、肺结核、流行性感冒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霍乱、麻疹等疾病的患者，其痰中的致病微生物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发到空气中，可使健康人通过呼吸这些带有病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空气而受到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19000" y="189000"/>
            <a:ext cx="5121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最令人深恶痛绝的生活陋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028960" y="2076480"/>
            <a:ext cx="506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常生活中，有些人吃东西和饮水前后、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后、接触不洁物品、打扫卫生、接触钱币、户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动、购物后不爱洗手。尽管“饭前便后要洗手”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从口入”的道理人人皆知，但并不是每个人都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遵守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洗手是预防呼吸道传染病和食源性传染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重要措施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同时，不勤洗澡和不常换衣，也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引起皮肤的炎症，降低机体的抵抗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96520" y="1260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３、饭前便后懒洗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19000" y="250920"/>
            <a:ext cx="5121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最令人深恶痛绝的生活陋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358360" y="140976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大声喧哗、干扰他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4360" y="234936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许多人在公共汽车、火车、飞机以及车站、机场、医院、餐厅等公共场所，高谈阔论、口若悬河，或者大声叫喊他人，与他人争论，根本无视他人的反应。这些行为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严重地破坏了他人和谐的工作和生活环境，是一种不尊重他人和不礼貌的行为，也是个人素质修养不高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19000" y="322200"/>
            <a:ext cx="5121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最令人深恶痛绝的生活陋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学生活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组讨论，每组至少列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文明规范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55640" y="26208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文明行为规范知多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 rot="21037200">
            <a:off x="6732720" y="472392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 rot="16200000">
            <a:off x="4574160" y="2345040"/>
            <a:ext cx="472428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714240" y="260280"/>
            <a:ext cx="378648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华文彩云"/>
              </a:rPr>
              <a:t>中学生校园礼仪规范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396" name=""/>
          <p:cNvSpPr/>
          <p:nvPr/>
        </p:nvSpPr>
        <p:spPr>
          <a:xfrm>
            <a:off x="2873160" y="34146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衣着应端庄，仪态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24320" y="4076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领物取物，主动排队，相互礼让，井然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24320" y="47815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他人宿舍，非请莫进；他人财物，未准莫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324320" y="55738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、走道楼梯，人来人往，你谦我让，主动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1527120"/>
            <a:ext cx="895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言语要文明，见面问声好。友善共相处热情礼相待。 “请”、“你好”、“对不起”、“谢谢”等文明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常挂嘴边，不说污言秽语，不给别人起不文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714240" y="260280"/>
            <a:ext cx="378648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华文彩云"/>
              </a:rPr>
              <a:t>中学生校园礼仪规范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02" name=""/>
          <p:cNvSpPr/>
          <p:nvPr/>
        </p:nvSpPr>
        <p:spPr>
          <a:xfrm>
            <a:off x="4230720" y="17589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、弱小贫困，帮扶资助；残疾病患，文明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30720" y="24922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７、桌面墙面，莫乱涂画；垃圾杂物，弃置有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30720" y="3860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９、上课考试，休息时间，尊重他人，保持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45480" y="31417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８、进出校门，主动下车，微笑致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36200" y="45655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０、升旗仪式，庄严肃穆，着装整齐，端正严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0" t="0" r="23" b="-14"/>
          <a:stretch/>
        </p:blipFill>
        <p:spPr>
          <a:xfrm>
            <a:off x="7034040" y="3284640"/>
            <a:ext cx="1859040" cy="3024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3670200" cy="62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Xiaoxiao de w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212256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天地间走来了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要问我姓什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哦叫什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我是山间一滴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也有生命的浪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我是地上一棵小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也有生命的绿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投入急流就是大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拥抱大地就是春之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465800" y="549360"/>
            <a:ext cx="3993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天地间走来了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要问我姓什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哦叫什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我是山间一缕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也能燃起一团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我是地上一多小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也有春天的颜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全部的爱献给祖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谱写一首爱之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0" y="4653000"/>
            <a:ext cx="396072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小小的我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5435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456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74456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260360" y="1413000"/>
            <a:ext cx="54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初次见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客人到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好久不见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欢迎购物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求人解答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赞人见解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请人帮助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谦意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麻烦别人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与人分手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02000" y="134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您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30720" y="17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5692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久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0380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光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5692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45120" y="350028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高见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38264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多关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10360" y="44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对不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10000" y="4797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拜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530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再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71640" y="189000"/>
            <a:ext cx="4392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常用文明礼貌用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944360" y="213372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答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32360" y="21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谢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05680" y="2709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礼让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7772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您先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01720" y="3357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接受感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328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是我应该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01720" y="4005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助人为乐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28280" y="39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我能帮您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81360" y="4726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征求意见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76360" y="472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指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77320" y="5518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慰问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74840" y="54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给您添麻烦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36080" y="148428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途先走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00760" y="14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失陪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042920" y="333360"/>
            <a:ext cx="43927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常用文明礼貌用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024360" cy="22446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284200" cy="2448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1730520" cy="2232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rcRect l="0" t="0" r="0" b="-73"/>
          <a:stretch/>
        </p:blipFill>
        <p:spPr>
          <a:xfrm>
            <a:off x="5651640" y="404640"/>
            <a:ext cx="1911240" cy="25196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1619280" y="2852640"/>
            <a:ext cx="565776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汉仪魏碑简"/>
              </a:rPr>
              <a:t>告别陋习，走向文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汉仪魏碑简"/>
              <a:ea typeface="汉仪魏碑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1d4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32000" y="2492280"/>
            <a:ext cx="6622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方正舒体"/>
              </a:rPr>
              <a:t>告别陋习，走向文明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067280" y="4438800"/>
            <a:ext cx="3960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姚体"/>
              </a:rPr>
              <a:t>---</a:t>
            </a: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姚体"/>
              </a:rPr>
              <a:t>培养良好文明习惯主题班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或许我们认为某些事情已是司空见惯的，已是熟视无睹了，甚至麻木了。可是只要仔细想想，就会发现这些事里有着许多与文明不合拍的东西。文明，就差这一点！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3672000" cy="2494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311280" cy="2430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692360" y="1170000"/>
            <a:ext cx="2868480" cy="2187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5003640" y="1197000"/>
            <a:ext cx="3168720" cy="2160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 rot="5400000">
            <a:off x="-747720" y="2070000"/>
            <a:ext cx="324036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028880" y="476280"/>
            <a:ext cx="6711840" cy="5373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 rot="5400000">
            <a:off x="-1053360" y="3508920"/>
            <a:ext cx="352728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193080" cy="4943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 rot="5400000">
            <a:off x="-837360" y="3222000"/>
            <a:ext cx="352728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696000" cy="5163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 rot="5400000">
            <a:off x="-1269360" y="3582000"/>
            <a:ext cx="352728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48360" cy="42991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 rot="5400000">
            <a:off x="-837360" y="3077280"/>
            <a:ext cx="352764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0:00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30:50Z</dcterms:modified>
  <cp:revision>1</cp:revision>
  <dc:subject>主题班会课件(分28大类): http://shop62905894.taobao.com</dc:subject>
  <dc:title>主题班会课件(分28大类): http://shop62905894.taobao.com</dc:title>
</cp:coreProperties>
</file>